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A2A-AD36-4020-9D4B-33C1FB954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624-6682-42C4-B95D-0EC52089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DF6-D3B2-48E8-BFCE-03AA0EA8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82E4-A7F3-4CBD-B342-791E07731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B24E-DE5F-4E1E-8B43-FC52E614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B1AF-E3BA-4839-883E-FAE799F1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79C1-6C94-4299-9F1D-B762B3AC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80E6-5E18-4834-B25D-FA3AFF0C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CC99-2E51-4F2F-B504-5C9A55E8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9FCF-6092-404C-90A1-AB8862C3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034E-983F-40E6-9614-EB9042BF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B71-6E5D-404B-8B19-95BE140E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EDDF-FF66-48D4-AAE1-CCF726E3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BC3F-246C-41D2-8E88-856ED35D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A3A1-4B77-44FA-B71F-DF3147CC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3248-CD84-44AA-8B59-03448C72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BCFA-0907-4BDF-AA8D-ACE681F4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2A65C-F774-425C-8A79-906D20D0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64315-91B0-4BC2-A034-C906CA7D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E4A23-CF61-413E-90B2-C2279B59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CE00A-1E73-4213-AD98-94FB8D2D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1F63E-F9E6-4AE4-BA30-0D88B6DE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18D-031B-4DBF-81F9-F297D4A6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2ECB6-3ABF-4B52-BBAC-E0347CD9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83906-5E97-4F3C-8AAB-A8EBD0DA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0170E-3AE0-43E0-BE48-5EBC54BB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52F76-E61F-4266-9E12-49DFD117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7EA06-56E4-4072-819A-00512D7D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20C11-1E6E-471A-A125-B6E01728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D2F4C-B0D4-4ABC-9A6D-BFB0B6B7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DB07E0-A657-44CF-8A0B-9815D1D8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0F860-D599-4A19-B9F1-262B2198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72A61-CBA4-47EB-AEBE-908EAA52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ACC-F4BE-417F-BB10-D139495D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1C67B9-EE89-40D2-9BA8-0B694B30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2DB4A-AF4E-4D84-8F74-BEBDE313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668A6-A97F-47DD-8440-2CF3B325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3CAF3B-1571-4A3C-8D24-186F274B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A41198-3D32-4473-A329-1D5E75DF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5008A-2394-4DFF-A8FF-F1703346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F06C4-776D-4C4C-9FB2-C16AABFD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60772D-E8CF-4D36-831E-7FE055DE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4B36EE-86C5-458D-80AC-9D3D4AF8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D0D8B-45B3-4412-B068-AE6FAC06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A21-6C92-4C0D-9D68-4CDA0C9D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3AC44-4702-4C27-8DE1-EA41AA28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1FF69-6191-49DD-8410-4305A635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B1C170-722E-410A-B608-BE6E5788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28EEC1-F220-40C2-B582-F7EC0A5F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4AFB0-38F2-48D6-B317-9B6DE6D3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CB6C98-8996-47A8-ABB2-CC5C8287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DA713-75CC-4435-9C2C-12DA5502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F73C7-B02D-464A-A897-7B40D53F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F83C5-6C5C-422D-AA98-247D313F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4E248-9088-40BB-9FF9-0EB74565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FEC-D91F-4092-BBE3-84478FF6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BB048-37B9-43CB-82DF-DBFA331B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F2928-CACD-4146-AD53-54054C79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18D66-A3B3-4DDF-B989-FC490256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29906-1217-42AB-82D3-0AA8FD84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D6331-ACB3-4447-B943-ACA228C7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D4C55-16E2-4BE4-8CE4-200C4E3C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0C164-ABDB-4EFD-B08D-09F10A56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8F6BC-E26F-4E19-95A6-FF594190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9E162-3E07-4794-8708-26E7C2DA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8D789-76CF-4AB3-8CFC-C49A2558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911-FCAB-42E6-8D97-5AFE9731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2E52A-8276-4636-B630-BB7C6AB2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9AA81-6E4D-4BCD-817E-498A153C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B2204-C563-456D-A9D4-DCD560E5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469311-816E-4B5B-87BE-466F5D4D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70C061-75F9-4202-B2E8-DDE97223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A40342-D6F5-4AD5-9B7B-92C951E0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B9F00C-CE29-4955-A1DE-79C227B5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B8F5D1-775C-4663-86F9-9554F8BF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35557-E384-4014-B939-58D82B4A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A43FE6-1108-468B-9868-5FAEA727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F73-6BFE-4DAA-B97F-78F12628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72896E-624B-4896-8E19-02132299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5848F5-0D24-484B-85F7-6F75FD23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609E0-B40E-485B-AA64-E174B62F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A59BE5-2C98-447E-9EF1-B87B56CB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046AA3-679D-403E-A3BE-4C8DDAC5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34B9F-8A9D-457D-A51C-15F5BD4C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A723C-0148-44DD-9A19-68EB57A0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146BE-D5A3-4A78-862F-3779E283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5B87C-6DCB-4950-AECC-88848AA0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060CE-6008-4E45-B7F8-41F4CB37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B77-A4C2-49E5-BBAA-0688DCA4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131BC-33B0-4AAD-B962-6F15533B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3F9EA-3AA3-4662-870F-7A25AECF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95979-982B-4556-8AC2-33200601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651A3-22B4-4485-97E4-A5C6464A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4AE83-8DA8-4C3B-AD26-B5E872B8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F0D7A-988A-40D5-AE82-0D47AD96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A9831-6ECD-42E5-91E3-778A544C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45C6-4441-4627-9418-C48180FDCD3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6735-F87B-4E33-9E00-8DEF4B1E86AA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20CB-A790-4CF7-8A73-9890485960BE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DF85-60E6-4638-BBA8-2C78430F11D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6267-282F-4219-9554-CC763E5E1629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4F23-5223-414D-B3D3-28E3CFE77DA5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DCD8-18B6-493B-8B1D-F1859181017E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074C-0EF4-40D5-8B87-8B01452C0039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zalia.ucoz.ru/plakat_2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57240" y="4038480"/>
            <a:ext cx="69818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МОДЕЛИ ИНТЕГРАЦИИ ДЕТЕЙ С ОГРАНИЧЕННЫМИ ВОЗМОЖНОСТЯМИ ЗДОРОВЬЯ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ечественная концепция интегрированного обучен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2" descr="http://azalia.ucoz.ru/plakat_2s.jpg">
            <a:hlinkClick r:id="rId1"/>
          </p:cNvPr>
          <p:cNvPicPr/>
          <p:nvPr/>
        </p:nvPicPr>
        <p:blipFill>
          <a:blip r:embed="rId2"/>
          <a:srcRect l="0" t="0" r="0" b="11654"/>
          <a:stretch/>
        </p:blipFill>
        <p:spPr>
          <a:xfrm>
            <a:off x="500040" y="21420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ти с ОВЗ изучают такие предметы, как изобразительное искусство, ОБЖ, физкультура, музыка, пение и трудовое обучение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 условиях общеобразовательных класс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а предметы по программам для С(К)ОУ соответствующих видов – в условиях классов коррекционно-педагогической поддержки. Обычно это такие предметы, как математика, русский язык или письмо и развитие речи, чтение или чтение и развитие речи, трудовое обучение, ритми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о-медико-педагогическое сопровождение поддерживает индивидуальные учебно-коррекционные маршруты и изучение программ для учеников с ОВЗ в целях обеспечения психологической, педагогической, медицинской, социально-педагогической и логопедической помощи; обеспечивает психологический комфорт и контроль за реализацией досугово-реабилит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ной частью социально-образовательной интеграции является развернутая система дополнительного образования. Его направления могут быть достаточно различны, но необходимый минимум э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культурно-спортивные с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о-эстетические студии и кру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ия декоративно-прикладным искусств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о-техническое творч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обенности организации интегрированного обучения в начальных классах общеобразовательной школы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4296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и отбор учебных планов, образовательных программ и учебно-методических и дидактических комплек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школьном учебном план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ен состав учебных предметов в рамках образовательных областей и образовательных компонентов базисного учебного плана, а значит, должна быть отражена специфика образовательной деятельности школы как учреждения, работающего в рамках интегрированного обучения. Методическое обеспечение такого обучения учащихся с психофизическими нарушениями и детей с нормальным развитием объединяет программные, учебно-методические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ие материа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для общеобразовательной шко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 и для специ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оррекционного) образовательного учрежд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редством которых выстраивае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бно-воспитательный процес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8" descr="http://im4-tub-ru.yandex.net/i?id=53481445-56-72"/>
          <p:cNvPicPr/>
          <p:nvPr/>
        </p:nvPicPr>
        <p:blipFill>
          <a:blip r:embed="rId1"/>
          <a:stretch/>
        </p:blipFill>
        <p:spPr>
          <a:xfrm>
            <a:off x="5857920" y="3857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рганизации учебно-воспитательного процесса главная трудность для учителя состоит в том, чтобы соотнести индивидуальные особенности ребенка с проблемами в развитии, интегрированного в среду нормально развивающихся сверстников, с выполнением образовательного стандарта, заложенного в специальной коррекционной образовательной программе для учреждений VII или VIII ви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 показывает, что в обучении детей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держкой психического разви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начальных этапах преобладает работа учителя-дефектолога в условиях класса коррекционно-педагогической поддержки, но постепенно участие учителя-дефектолога сокращается, и дети в большем объеме получают знания на уроках в условиях общеобразовательного кла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бучении же детей с нарушением интеллекта ситуация обратная. На начальных этапах обучения умственно отсталые дети большую часть учебного времени проводят со своими нормально развивающимися сверстниками, но по мере адаптации детей к классу и усложнения образовательной программы увеличивается количество часов обучения в классе коррекционно-педагогической поддержки под руководством учителя-дефекто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ыбор программ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– основа обучения. Для обучения учащихся с особенностями в развитии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 начальной школе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за основу берутся: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иповые государственные программы для общеобразователь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1–4 кл. (Авторские программы Л.В.Занкова, В.В.Истоминой, Д.Б.Эльконина, В.В.Давыдова, Н.Я.Виленкина – Л.Г.Петерсон и типовые – авторы В.Г.Горецкий, В.А.Кирюшкин, Т.Г.Рамзаева, Л.Ф.Климанова, Н.Н.Светловская, О.В.Джежелей, М.И Моро, М.А.Бантова, Г.В.Бельтюкова, С.И.Волкова, С.В.Степанов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задержкой псих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Е.А.Екжанова, Г.М.Капустина, Ю.А.Костенкова, Т.В.Кузмичева, Е.Б.Новикова, Е.Н.Морсакова, Р.Д.Тригер, Н.А.Цыпина, С.Г.Шевченко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VII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нарушением интелл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Авторы:В.В.Воронкова, И.В.Коломыткина, Н.М.Барская, С.Ю.Ильина, З.Н. Смирнова, Г.Н.Гусева, А.К.Аксенова, Э.В.Якубовская, А.А.Хилько, В.В.Эк, М.Н.Перова и др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Интегрированное календарно-тематическое планирование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основе обозначенных программ, учебников и учебных пособий составляется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интегрированное календарно-тематическое планирован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по учебным дисциплинам. В составлении календарно-тематического планирования принимают участие учителя начальных классов, учителя-дефектологи. Это объясняется тем, что количество часов по учебным дисциплинам, содержание тем образовательной программы следует распределить для изучения в общеобразовательном классе и в классе коррекционно-педагогической поддержки. Программы образовательных учреждений изучаются учителями и сводятся совместно со специалистами коррекционного образования таким образом в календарно-тематическое планирование, чтобы на одном уроке дети разных уровней развития изучали одну и ту же тему, но информация, получаемая учениками по теме, должна быть адекватна его образовательной программе. Контрольные и творческие работы разрабатываются в соответствии с уровнем развития учащихся и оцениваются согласно требованиям учебной програм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Поурочное планировани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урочн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азируется на учебном плане образовательного учреждения, в котором выделяются инвариантная и вариативная части. Инвариантная часть учебного плана содержит в себе федеральный и национально-региональный компоненты. Федеральный компонент обеспечивает удовлетворение образовательных потребностей в рамках государственного стандарта, гарантирует овладение выпускниками знаниями, умениями, навыками, обеспечивающими возможность продолжения образования. Национально-региональный компонент обеспечивает включение в содержание образования вопросов, связанных со спецификой той или иной области страны (географические, социальные, производственные, экономические, экологические, этнические, культурные и т.п.), которые органично входят в соответствующие образовательные области в рамках часов учебны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86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ецифика составления школьных учебных планов для детей с задержкой психического развития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599840"/>
            <a:ext cx="864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ариативная часть учебного плана обеспечена учебно-методическим комплексом в части дополнительных часов, предоставленных на предметы, которые усиливают, расширяют и углубляют знания учащихс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специфику составления школьных учебных планов для детей с задержкой психического развития, интегрированных в среду своих нормально развивающихся сверстников, на начальной ступени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УЧЕБНЫЙ ПЛАН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а 2008–2009 учебный год для детей, обучающихся по программам для учреждений VII вида (1–4 классы)</a:t>
            </a:r>
            <a:br>
              <a:rPr sz="40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7120" y="1905120"/>
          <a:ext cx="8572680" cy="466704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393840"/>
                <a:gridCol w="392040"/>
                <a:gridCol w="414360"/>
                <a:gridCol w="414360"/>
                <a:gridCol w="393480"/>
                <a:gridCol w="393840"/>
                <a:gridCol w="428400"/>
                <a:gridCol w="428760"/>
                <a:gridCol w="471600"/>
                <a:gridCol w="473040"/>
                <a:gridCol w="471600"/>
                <a:gridCol w="411120"/>
              </a:tblGrid>
              <a:tr h="8046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-образовательный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 коррекц.-пед. под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56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ариант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rowSpan="9"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образова-тельные 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овед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бр. иск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 и п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ая подгото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71680" y="1643040"/>
          <a:ext cx="8143560" cy="4429080"/>
        </p:xfrm>
        <a:graphic>
          <a:graphicData uri="http://schemas.openxmlformats.org/drawingml/2006/table">
            <a:tbl>
              <a:tblPr/>
              <a:tblGrid>
                <a:gridCol w="1695240"/>
                <a:gridCol w="382680"/>
                <a:gridCol w="382680"/>
                <a:gridCol w="382320"/>
                <a:gridCol w="403200"/>
                <a:gridCol w="382680"/>
                <a:gridCol w="382680"/>
                <a:gridCol w="382680"/>
                <a:gridCol w="417240"/>
                <a:gridCol w="368280"/>
                <a:gridCol w="460440"/>
                <a:gridCol w="459000"/>
                <a:gridCol w="399960"/>
                <a:gridCol w="1644480"/>
              </a:tblGrid>
              <a:tr h="51444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ти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накомление с окружающ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 в народ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течественная концепция интегрированного обучения строится на трех основных принципах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ранней диагностике и коррекции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обязательной коррекционной помощи каждому ребенку, интегрированному в общеобразовательное пространство вне зависимости от формы интеграции, которую предпочли родители ребенк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продуманном и обоснованном отборе детей для интегрированного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http://im7-tub-ru.yandex.net/i?id=19871399-44-72"/>
          <p:cNvPicPr/>
          <p:nvPr/>
        </p:nvPicPr>
        <p:blipFill>
          <a:blip r:embed="rId1"/>
          <a:stretch/>
        </p:blipFill>
        <p:spPr>
          <a:xfrm>
            <a:off x="6786720" y="5143680"/>
            <a:ext cx="21430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714680"/>
          <a:ext cx="8786880" cy="4998960"/>
        </p:xfrm>
        <a:graphic>
          <a:graphicData uri="http://schemas.openxmlformats.org/drawingml/2006/table">
            <a:tbl>
              <a:tblPr/>
              <a:tblGrid>
                <a:gridCol w="1743120"/>
                <a:gridCol w="1863720"/>
                <a:gridCol w="412560"/>
                <a:gridCol w="411480"/>
                <a:gridCol w="412560"/>
                <a:gridCol w="434880"/>
                <a:gridCol w="412920"/>
                <a:gridCol w="412560"/>
                <a:gridCol w="412920"/>
                <a:gridCol w="449280"/>
                <a:gridCol w="398520"/>
                <a:gridCol w="495360"/>
                <a:gridCol w="495000"/>
                <a:gridCol w="432000"/>
              </a:tblGrid>
              <a:tr h="4950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5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6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и групповые коррекцион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8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речи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опедические занятия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психомоторики и сенсорных процессов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терии эффективности интегрированного обучения</a:t>
            </a: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85840" y="194940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пешность овладения образовательной программой детьми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сутствие пропусков занятий без уважительной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тельная динамика психосоматического здоровья и снижение заболеваемости детей с ОВ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личие друзей у детей с ОВЗ среди детей группы и однокласс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 участия детей в системе дополнительного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родителей в сопровождении детей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детей и подростков в коллективных видах деятель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адачи специального образования в отношении интеграции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определение системы показаний для осуществления интеграции ребенка с разным уровнем психофизического развития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содержания и форм специализированной поддержки детей, интегрированных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и апробация вариативных индивидуальных программ воспитания, обучения и развития учащихся с психофизическими наруш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в общеобразовательных учрежд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0" descr="http://im8-tub-ru.yandex.net/i?id=316505157-60-72"/>
          <p:cNvPicPr/>
          <p:nvPr/>
        </p:nvPicPr>
        <p:blipFill>
          <a:blip r:embed="rId1"/>
          <a:stretch/>
        </p:blipFill>
        <p:spPr>
          <a:xfrm>
            <a:off x="7000920" y="49291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деи Л.С. Выготского о воспитании ребенка с нарушением развития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85688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готский писал, что «при всех достоинствах наша специальная школа отличается тем основным недостатком, что она замыкает своего воспитанника – слепого, глухого, умственно отсталого ребенка – в узкий круг школьного коллектива, создает замкнутый мир, в котором все приспособлено к дефекту ребенка, все фокусирует его внимание на своем недостатке и не вводит его в настоящую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й из форм оптимального развития умственно отсталого ребенка, по мнению ученого, должен стать коллектив. Подчеркивая превалирующую роль коллектива в процессе развития и воспитания, автор выдвигает требование насыщения коллектива разными по степени интеллектуального недоразвития детьми. По мнению исследователя, в тех случаях, когда коллектив отсталых детей достаточно однороден, это наносит ущерб как нормальным, так и аномальным детям – лишает их возможности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Формы интегрированного обучения детей с отклонениями в развитии</a:t>
            </a:r>
            <a:br>
              <a:rPr sz="4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бинирова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ученик с отклонениями в развитии способен обучаться в классе здоровых детей, получая при этом систематическую помощь со стороны учителя-дефектолога, логопеда, псих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ич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обучающиеся с отклонениями в развитии не способны на равных условиях со здоровыми сверстниками овладевать образовательной программой; в этом случае часть дня они проводят в спецклассах, а часть дня – в обычных класс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ме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дети, обучающиеся в специальных классах, и учащиеся обычных классов объединяются не реже двух раз в месяц для совместных прогулок, праздников, соревнований, отдельных мероприятий воспитательного зна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1–2 ребенка с отклонениями в развитии вливаются в обычные группы детского сада или классы (дети с ринолалией, слабовидящие или дети с кохлеарным имплантантом); эти дети по уровню психофизического, речевого развития более менее соответствуют возрастной норме и психологически готовы к совместному обучению со здоровыми сверстниками; коррекционную помощь они получают по месту обучения, или ее оказывают родители под контролем специа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Этапы организации социально-образовательной интеграции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ранне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дошкольно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школьного обуч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профессионально-трудовой адапт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4" descr="http://im5-tub-ru.yandex.net/i?id=7869440-41-72"/>
          <p:cNvPicPr/>
          <p:nvPr/>
        </p:nvPicPr>
        <p:blipFill>
          <a:blip r:embed="rId1"/>
          <a:stretch/>
        </p:blipFill>
        <p:spPr>
          <a:xfrm>
            <a:off x="5072040" y="4000680"/>
            <a:ext cx="3409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Этап дошкольного детства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1600200"/>
            <a:ext cx="837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встраивания ребенка с ОВЗ в первую общественную образовательную систему – дошкольное обучение и воспитание. Требования к осуществлению интеграции н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апе дошкольного детст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е наличие индивидуальной коррекционно-развивающей и образовательно-воспитательной программы для ребёнка с теми или иными ограничени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создания адекватной возможностям ребёнка охранительно-педагогической и предметно-развивающей сре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специальной образовательной помощи, осуществляемой командой сотрудников при ведущей роли педагога-дефект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ткое разделение функционала всех специалистов, вовлечённых в интегрированное до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родителей навыкам стимулирующего общения с собственным ребёнк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нормально развивающихся дошкольников, вовлечённых в интегрированное обу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Calibri"/>
              </a:rPr>
              <a:t>Группы кратковременного пребывания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13840" y="1600200"/>
            <a:ext cx="8551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из важных форм интегрированного обуч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дошкольном возрас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уппы кратковременного пребы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скольку в группы принимаются дети с различной структурой дефекта, при организации групповых занятий необходима одновременная, совместная работа 2–3 педагогов, осуществляющих обучение детей разным видам деятельности и обеспечивающих их сопровождение в процессе воспитания и обучения с учетом различий в тяжести имеющихся нарушений. Во время проведения одним из педагогов занятия по развитию той или иной деятельности, другие педагоги выполняют функцию педагогов сопровождения, тем самым помогая детям на занятии и одновременно обучая родителей навыкам взаимодействия с собственными детьми. Для этих целей возможно использование и родителей, прошедших квалифицированное обучение, и специально подготовленных тьюторов, которые соответствуют требованиям, предъявляемым к уровню их профессиональной и личностной гото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важно учитывать, что гибкое сочетание индивидуальных и групповых занятий позволяет ребёнку с ОВЗ выработать разные стратегии поведения в процессе общения и различных видах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Период школьного обуче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840" y="1600200"/>
            <a:ext cx="855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реализации социально-образовательной интеграции в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ериод школьного обуче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обходимо наличие следующих четырёх структурных компонентов [Резникова Е.В., 2007]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общеобразовательного класс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класса коррекционно-педагогической поддерж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стема психолого-медико-педагогического сопровождения всех обучающихся в учрежде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ёрнутая сеть услуг дополнительного образ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15:43Z</dcterms:created>
  <dc:creator>Руководитель отдела</dc:creator>
  <dc:description/>
  <dc:language>en-US</dc:language>
  <cp:lastModifiedBy>Галина</cp:lastModifiedBy>
  <dcterms:modified xsi:type="dcterms:W3CDTF">2021-09-14T08:04:44Z</dcterms:modified>
  <cp:revision>16</cp:revision>
  <dc:subject/>
  <dc:title>моделей интеграции детей с ограниченными возможностями здоровья</dc:title>
</cp:coreProperties>
</file>